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407B-AE4C-4668-AE77-10164BFE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F490-FA2A-439B-B038-55F367F2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6D8C-8EC4-4BA9-BFAF-D5031BB5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A49B-C757-45BA-97A1-1736A429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E524-017B-498B-A47B-1E39D265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E393-986E-4522-80DC-E8F9DB0C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8B19-9802-4A5F-A787-750BEA40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621A-8ACD-4C2E-815B-67338F38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8E94-4559-4134-AF7D-2BFFD721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4724-6927-40FB-B9B2-C6FD6BC3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A680-5915-4437-98DF-27CF79C7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FB77-2356-401E-9276-FB119FCC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E4B3-2106-42CD-8A9D-65B5D900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E7F5-53C8-4C42-8BE3-CDD64F11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096D-129E-4B6F-853D-925728E4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07F1-2177-4C22-837C-2322AF4C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4F66-1DF3-410B-B0EE-39399A7C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C996-8195-41CB-AC19-99DE6D55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CE41-31E1-489B-A67A-EA768C49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8FC4-D1FA-4A29-A713-CB9288FB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90C0-0AEC-46D9-825D-EC24F12F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0476-47D9-4C42-AD39-B110FA9A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DB0C-5750-4798-BFB3-A69DEE9C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98AD-1ED3-45C6-B4D4-9DC37C9B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5226-222A-4900-9498-EB9B5389AA9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8E4E-FD3C-4C56-A06B-4A74C9A184A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4680-1BE9-4CCF-99E6-C515E749ACF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D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CUMENTING and </a:t>
            </a:r>
            <a:r>
              <a:rPr b="1" i="1" lang="en-US" sz="4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A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CKNOWLEDGING </a:t>
            </a:r>
            <a:r>
              <a:rPr b="1" i="1" lang="en-US" sz="4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S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URCES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901"/>
              </a:spcBef>
              <a:buSzPct val="12339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Maintain a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Reference List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6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Do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not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call it a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Bibliograph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SzPct val="1183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Academic honesty demands i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Not to document is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plagiarism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SzPct val="12339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Gives access to your sources.</a:t>
            </a: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Reader verify and follow-up easi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SzPct val="12339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Use quality sources; quote wisely.</a:t>
            </a: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Adds value and author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371600"/>
            <a:ext cx="8534160" cy="4800600"/>
          </a:xfrm>
          <a:prstGeom prst="roundRect">
            <a:avLst>
              <a:gd name="adj" fmla="val 16667"/>
            </a:avLst>
          </a:prstGeom>
          <a:noFill/>
          <a:ln cap="sq"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61FD-6C70-491D-9BA4-1E1DD49C26F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D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CUMENTING &amp; 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A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CKNOWLEDGING 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URCES</a:t>
            </a:r>
            <a:br>
              <a:rPr sz="4000"/>
            </a:br>
            <a:r>
              <a:rPr b="1" i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F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ORMATTING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901"/>
              </a:spcBef>
              <a:buSzPct val="12339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Use a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Style Guide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. Be consisten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5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MLA and APA are two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authorities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901"/>
              </a:spcBef>
              <a:buSzPct val="1183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Alphabetize and double-space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Indent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second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 line. Do not numb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901"/>
              </a:spcBef>
              <a:buSzPct val="12339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Integrate all sources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6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Make </a:t>
            </a:r>
            <a:r>
              <a:rPr b="1" lang="en-US" sz="4000" spc="-1" strike="noStrike">
                <a:solidFill>
                  <a:srgbClr val="ffcc00"/>
                </a:solidFill>
                <a:latin typeface="Arial Rounded MT Bold"/>
              </a:rPr>
              <a:t>one</a:t>
            </a: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alphabetized li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676520"/>
            <a:ext cx="8534160" cy="4495680"/>
          </a:xfrm>
          <a:prstGeom prst="roundRect">
            <a:avLst>
              <a:gd name="adj" fmla="val 16667"/>
            </a:avLst>
          </a:prstGeom>
          <a:noFill/>
          <a:ln cap="sq"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D30F-31DA-4DF5-9C5D-6B7A81BAF27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D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CUMENTING &amp; 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A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CKNOWLEDGING 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URCES</a:t>
            </a:r>
            <a:br>
              <a:rPr sz="4000"/>
            </a:b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I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NTERNET &amp; </a:t>
            </a: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O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THER </a:t>
            </a: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E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-</a:t>
            </a: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S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OURC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901"/>
              </a:spcBef>
              <a:buSzPct val="12339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Basic information the sam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Author, title, place, da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183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Unique features include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Uniform Resource Locator (URL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Date accessed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SzPct val="12339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Some info may not be available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Cite what you can fin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676520"/>
            <a:ext cx="8534160" cy="4419360"/>
          </a:xfrm>
          <a:prstGeom prst="roundRect">
            <a:avLst>
              <a:gd name="adj" fmla="val 16667"/>
            </a:avLst>
          </a:prstGeom>
          <a:noFill/>
          <a:ln cap="sq"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F25E-C1BD-47D1-ACDD-497C17B1E8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Bailey, Sue. “Critics: Stats on Shelters Are Misleading.” 5 Nov. 2002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Canoe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CNEWS: News Ticker National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7 Nov. 2002 &lt;http://www. Cnews/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canoe.ca&gt;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Beckwith, J.  "Glenn Gould." 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The New Grove Dictionary of Music and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Musicians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Ed. Stanley  Sadie. Vol. 7. London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MacMillan, 1989. 579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Canadian Broadcasting Corporation.  "Down on the Farm: Crisis in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Agriculture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CBC TVNews-In-Review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Videocassette. CBC, Feb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1999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3816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64D5-1382-4B6A-9757-8B8129139F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898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Conservationists Push to Save Polar Bears.” 5 Nov. 2002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CBC News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Online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6 Nov. 2002 &lt;http://www.cbc.ca/stories/ 2002/11/05/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polar_bears&gt;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ts val="3898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rook, Connie Brummel. "Writing historical fiction."  E-mail to the author.   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21 June 2002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ts val="3898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Davison, Peter. "Ecotourism Can Help Preserve The Rainforests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Global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Warming: Opposing Viewpoints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 Ed. David Bender.  San Diego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Greenhaven, 1999.  171-78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7632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9735-BA65-4D71-9D0F-289882F21C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Doob, Anthony.  "Youth Justice Publications into Research in Canada: An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Assessment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Canadian Journal of Criminology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Apr. 1999: 217+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EBSCOhost 3.1, Peel District School Board, Mississauga, ON. 20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July 1999 &lt;http://epnet.com/ ehost/&gt;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Frizzell, Alan, and Jon H. Pammett, ed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Shades of Green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Environmental Attitudes in Canada and Around the World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Richmond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Carleton UP, 1997.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Govier, Katherine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A Medley of Canadian poets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”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Time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5 July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1999,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Canadian ed.: 50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3816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81D6-7605-467A-88DA-99D4CF7FC4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83908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"Hardware:PlayStation 2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PlayStation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7 Nov. 2002. &lt;http://us.playstation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com/hardware/PS2/SCPH-30001.asp&gt;.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Haworth-Attard, Barbara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Irish Chain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Toronto: Harper Collins,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2002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Hughes, Monica. Home page. 7 Nov. 2002 http://www.ecn.ab.ca/ ughes/&gt;.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"Jane Austen." 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Great Writers of the English Language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 Vol. 8. Toronto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Marshall Cavendish, 1989.  5-28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"Julie Payette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Canadian Geographic Explorer: An Interactive Journey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Around Canada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CD-ROM. IQ Media, 1997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McClelland, Susan.  "Users Beware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‘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Quack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’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Sites Lurk Among Many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Good Internet Health Links." 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Maclean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’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s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21 June 1999:  58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3816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9C16-41B4-4529-A8AC-0E037C0246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5248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3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Nye, Bill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. "The Suns: The Planets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Bill Nye: The Science Guy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Videocassette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Magic Lantern. 2000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바탕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ts val="33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Shelley, Mary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Frankenstein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1818. Toronto: Penguin, 1994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Skreslet, Laurie and Elizabeth McLeod. 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To the Top of Everest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Toronto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Kids Can, 2001.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Sly, P.G. "Great Lakes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The 1998 Canadian &amp; World Encyclopedia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CD-ROM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Toronto: McLelland &amp; Stewart. 1998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Stewart, Garrett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Lewis, C.S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”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World Book Online Americas Edition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2002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World Book. 7 Nov. 2002 &lt;http://www.worldbookonline.com/wbol/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wbAuth/sp./wbarticle.jsp&gt;.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  <a:ea typeface="바탕"/>
              </a:rPr>
              <a:t>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7632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1T21:07:12Z</dcterms:created>
  <dc:creator>Sya VanGeest</dc:creator>
  <dc:description/>
  <dc:language>en-US</dc:language>
  <cp:lastModifiedBy>KIGCIRC</cp:lastModifiedBy>
  <dcterms:modified xsi:type="dcterms:W3CDTF">2003-11-13T12:43:39Z</dcterms:modified>
  <cp:revision>42</cp:revision>
  <dc:subject/>
  <dc:title>Why a Research Model?</dc:title>
</cp:coreProperties>
</file>